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08D-2691-49EA-B489-063429D6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E5E-4A65-4C46-B6D5-9BFC82A9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6A4-D8D0-487B-B0C8-9F3D9777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BC1-C551-48B5-AE8F-D5D55493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4C3A9-94EA-4A5F-A923-C4961036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CFDF0-D204-488B-85AC-FD00337B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0824E-5136-4784-AD8B-E3BA2C3C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FACA1-7913-430B-B0CD-B27FBE91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A2D50-52D9-4ED9-88B5-4E701AFC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C5A3C-F9F2-4DBB-8311-8F760D4E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E6A9B-C905-458C-8AD5-A32A1152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BC8-B7F4-480A-B90D-C9B19D01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59448-F58A-48E5-ADA3-D41AFA81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F7775-D1AC-46D8-85F2-1F121A6F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466F9-D5D5-442E-B937-4A83813E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7C7E5-6FD8-410F-9163-6CA86DBC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8C217-14CA-4CF0-8124-56581DFC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265-BBE9-436F-B75A-8FD93FF7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F98-5C4D-48AD-AC2B-9E1B1D80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BA7-3353-45BA-8411-A723BFEF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D7C-6894-4AA0-AE9F-571EA68B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921-860E-4695-9131-14C4A3C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118-1402-47C8-8CDC-67C86795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0CC-8586-4E2E-B936-B4827BD2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6F65-4C60-458E-98D2-59B2167D9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4C3F-EF58-4CBF-8448-DDB7C33A1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514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48006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 John Robert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l jardín es hermos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l garaje es de luj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381880" cy="52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anks for watching!!!!!!!!!!!!!!!!!!!!!!!!!!!!!!!!!!!!!!!!!!!!!!!!!!!!!!!!!!!!!!!!!!!!!!!!!!!!!!!!!!!!!!!!!!!!!!!!!!!!!!!!!!!!!!!!!!!!!!!!!!!!!!!!!!!!!!!!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04920" y="5638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521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217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80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 es estupen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 patio es grand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medor es lujos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 es gran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5438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86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 bano es moder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81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la dormitorio es lujos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030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El patio es hermos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153280" y="1523880"/>
            <a:ext cx="304920" cy="15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8839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030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789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4:02Z</dcterms:created>
  <dc:creator>robertsonjoh</dc:creator>
  <dc:description/>
  <dc:language>en-US</dc:language>
  <cp:lastModifiedBy>robertsonjoh</cp:lastModifiedBy>
  <dcterms:modified xsi:type="dcterms:W3CDTF">2012-03-30T16:05:17Z</dcterms:modified>
  <cp:revision>9</cp:revision>
  <dc:subject/>
  <dc:title>Slide 1</dc:title>
</cp:coreProperties>
</file>